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2340-B4C0-419C-BD11-C2DF6675F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BDD3-F169-4DEE-9CB2-4BBCFC9F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FEDE-1E9F-409E-A272-CED748B6A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0025-5FE1-4884-9614-BD4C49B97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6B132-187E-4BCA-A636-440943709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52EB-E530-46C2-BF88-7B068397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22CF-F7FE-4576-957B-9251E09B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AA61D-1B79-493E-8795-C278F3B6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6351-12E8-4E1F-A882-581BD7BD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3AA86-FBFD-46DD-A1B3-E349779D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2E92-F91B-4086-81BC-C564249C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5A7F-10AA-4518-93B1-1D7D3726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1C2B-E24F-4035-897F-8E426FF7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16B4-BEEE-4480-A407-81DF5843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D89E5-55BE-4BE1-8A5C-9922688F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7235-FBCD-462B-BA6E-2D3D4A696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BF7D-3B96-4569-92FC-1DA171071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C834-67AD-47FA-B8F9-818EC747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E1B3-6A8E-43CF-B0FE-7E942AD4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396A-1901-4021-B026-25B40D5E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D6B1-36AA-4D73-B92A-D7A680FF0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42E7-CE7C-48FA-B98E-842C39DB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8557-72C0-431A-9A4B-09147D77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6D2F-227B-4364-80D0-5FA3C176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B041-3386-42CA-89B8-779EEFBA9DB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3EE4-B483-46DA-9997-5AE410E3CAD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1915920"/>
            <a:ext cx="7631280" cy="305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Номинация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«История из жизни моей семьи» -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«Мультимедиа-проект»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-360" y="566064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Автор: Сидорович Ольга Дмитриевна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 лет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ученица 3 -го класса Великосельской СОШ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Руководитель: Сидорович Светлана Николаевна – учитель информатики и ИКТ, ИЗО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оброе в моей семь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184640" cy="26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апа и мама очень меня любили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ы ходили в зоопарк, в парк развлечений, в цирк. Наверное поэтому я очень люблю животны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68360" y="4869000"/>
            <a:ext cx="2627280" cy="16984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580000" y="3878280"/>
            <a:ext cx="3149640" cy="26827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5580000" y="1733400"/>
            <a:ext cx="3059280" cy="18129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3635280" y="4797360"/>
            <a:ext cx="15210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Грустное в моей семь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ы всегда жили дружно! Всегда вместе отдыхали, веселились и играли. Все было замечательно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о однажды всё закончилось…потому что папа умер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932360" y="4508640"/>
            <a:ext cx="3274920" cy="2133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932360" y="1557360"/>
            <a:ext cx="324468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Грустное в моей семь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906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т, конечно, я неправа, не всё закончилось, нам хорошо вместе с мамой, но всё равно папы нам очень не хватает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ы так же много гуляем, ездим на экскурсии, ходим в музеи, в цирк, зоопарки, парки аттракционов, узнаём много нового, но нас осталось только двое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508720" y="1341360"/>
            <a:ext cx="25398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оброе в моей семь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ама очень любит меня…И я её так же сильно люблю! Она очень добрая, всегда меня понимает и много уделяет мне времени…Во всём всегда помогает и поддерживае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572000" y="1268280"/>
            <a:ext cx="33656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4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оброе в моей семь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3457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Мы с мамой переехали в деревню к бабушке и дедушке – её родителям, чтобы быть чаще на свежем воздухе и природе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Но я часто езжу и в город - к папиным родителям и к своей тёте. Мы любим кататься на пароходе и гулять у фонтанов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708360" y="4869000"/>
            <a:ext cx="2627280" cy="16984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6443640" y="2708280"/>
            <a:ext cx="2131920" cy="3240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4211640" y="1989000"/>
            <a:ext cx="20289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оброе в моей семь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Мама и я любим ездить в зоопарк и цирк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300720" y="2492280"/>
            <a:ext cx="2567160" cy="38894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2530440" cy="38163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3203640" y="2492280"/>
            <a:ext cx="1225440" cy="19447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3059280" y="4724280"/>
            <a:ext cx="2881080" cy="1836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4643280" y="2492280"/>
            <a:ext cx="13431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3000"/>
                            </p:stCondLst>
                            <p:childTnLst>
                              <p:par>
                                <p:cTn id="3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4000"/>
                            </p:stCondLst>
                            <p:childTnLst>
                              <p:par>
                                <p:cTn id="3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0"/>
                            </p:stCondLst>
                            <p:childTnLst>
                              <p:par>
                                <p:cTn id="3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оброе в моей семь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 садике мы часто участвовали в праздниках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3024000" cy="22831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635280" y="2349360"/>
            <a:ext cx="1530360" cy="2286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5435640" y="2421000"/>
            <a:ext cx="3384360" cy="22683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835280" y="5013360"/>
            <a:ext cx="7308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 в Новогоднем празднике, и в Ярмарке, и празднике, посвящённом празднованию Побед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500"/>
                            </p:stCondLst>
                            <p:childTnLst>
                              <p:par>
                                <p:cTn id="40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500"/>
                            </p:stCondLst>
                            <p:childTnLst>
                              <p:par>
                                <p:cTn id="41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500"/>
                            </p:stCondLst>
                            <p:childTnLst>
                              <p:par>
                                <p:cTn id="4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500"/>
                            </p:stCondLst>
                            <p:childTnLst>
                              <p:par>
                                <p:cTn id="4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оброе в моей семь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8144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 детском саду я очень любила спортивные игры и праздник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85840" y="4365720"/>
            <a:ext cx="1847880" cy="18716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5435640" y="1557360"/>
            <a:ext cx="3446280" cy="47512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2484360" y="4365720"/>
            <a:ext cx="257328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3000"/>
                            </p:stCondLst>
                            <p:childTnLst>
                              <p:par>
                                <p:cTn id="4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3500"/>
                            </p:stCondLst>
                            <p:childTnLst>
                              <p:par>
                                <p:cTn id="4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оброе в моей семь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4790880" cy="28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ейчас я тоже люблю спорт, танцы, хожу в музыкальную школу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203640" y="3789360"/>
            <a:ext cx="2520720" cy="24321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12000" y="1413000"/>
            <a:ext cx="2708280" cy="49132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rcRect l="10029" t="0" r="0" b="0"/>
          <a:stretch/>
        </p:blipFill>
        <p:spPr>
          <a:xfrm>
            <a:off x="179280" y="3860640"/>
            <a:ext cx="288144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4000"/>
                            </p:stCondLst>
                            <p:childTnLst>
                              <p:par>
                                <p:cTn id="48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0"/>
                            </p:stCondLst>
                            <p:childTnLst>
                              <p:par>
                                <p:cTn id="49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6000"/>
                            </p:stCondLst>
                            <p:childTnLst>
                              <p:par>
                                <p:cTn id="50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оброе в моей семь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402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 нас всё замечательно, но мне очень не хватает папы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 пусть я была еще маленькой, но я его помню…и именно нашей полной, счастливой семье я хотела посвятить свою презентацию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едь пап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сегда с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ми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325296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5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03280" y="184428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«Доброе и грустное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в нашей семье»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Спасибо за внимание!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635280" y="3860640"/>
            <a:ext cx="2303640" cy="22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7556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азрешите представиться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6244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еня зовут Сидорович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льга Дмитриевна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я учусь в Великосельской средней общеобразовательной школе в 3 классе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не 8 лет. Я очень люблю свою семью и хочу рассказать о ней немног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292720" y="1125360"/>
            <a:ext cx="2494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оброе в моей семь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60692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оя история очень грустная, но именно это событие я хочу описать в своей презентац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оя семья родилась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8 июня 1999 года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 21 августа в ней появилась я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545160" y="2060640"/>
            <a:ext cx="1944720" cy="2952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643280" y="3573360"/>
            <a:ext cx="1478160" cy="2521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2268360" y="4797360"/>
            <a:ext cx="172908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оброе в моей семь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7676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сё было замечательно! Мы постоянно много гуляли с мамой и папой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588000" y="2060640"/>
            <a:ext cx="2122560" cy="3024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241280" y="3860640"/>
            <a:ext cx="2455920" cy="2592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3924360" y="2997360"/>
            <a:ext cx="239076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оброе в моей семь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9144000" y="-1971720"/>
            <a:ext cx="3220920" cy="21956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40384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Я всегда очень любила купаться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, вскоре, мой водоём вырос до огромных размеров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-3997440" y="4005360"/>
            <a:ext cx="3240360" cy="25416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859280" y="4005360"/>
            <a:ext cx="40384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ама прошлым летом купила мне бассейн, чтобы я могла купаться одна. Я очень жду этого ле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16185E-006 C 0.03403 0.20139 0.06823 0.40277 -0.01111 0.49271 C -0.09045 0.58266 -0.28333 0.56092 -0.47622 0.53919 E">
                                      <p:cBhvr>
                                        <p:cTn id="135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3.00578E-006 C 0.10573 0.09272 0.21146 0.18567 0.30781 0.19029 C 0.40417 0.19491 0.53229 0.05965 0.57778 0.02752 C 0.62326 -0.00462 0.60208 -0.00347 0.5809 -0.00208 E">
                                      <p:cBhvr>
                                        <p:cTn id="141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оброе в моей семь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60720" y="4508280"/>
            <a:ext cx="5183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о и зимой я очень люблю гулять и играть, мы всегда лепим снеговика из первого снега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932360" y="1413000"/>
            <a:ext cx="2847960" cy="29527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042920" y="1773360"/>
            <a:ext cx="28591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0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оброе в моей семь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483920"/>
            <a:ext cx="377676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 ещё я всегда любила узнавать новое, учиться чему-то, мама всегда  мне в этом помогал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03640" y="1484280"/>
            <a:ext cx="3564000" cy="22878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012000" y="4076640"/>
            <a:ext cx="2808000" cy="2297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3492360" y="4076640"/>
            <a:ext cx="2400480" cy="23274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324000" y="4076640"/>
            <a:ext cx="302400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500"/>
                            </p:stCondLst>
                            <p:childTnLst>
                              <p:par>
                                <p:cTn id="18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500"/>
                            </p:stCondLst>
                            <p:childTnLst>
                              <p:par>
                                <p:cTn id="19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500"/>
                            </p:stCondLst>
                            <p:childTnLst>
                              <p:par>
                                <p:cTn id="19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оброе в моей семь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4103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 ещё я очень люблю природу вообще – речку, поле, лес! Мы очень часто ходим к реке, в лес за грибами и ягодами, выгуливаем у бабушки коровку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292720" y="2060640"/>
            <a:ext cx="29336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5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1T16:21:43Z</dcterms:created>
  <dc:creator>User</dc:creator>
  <dc:description/>
  <dc:language>en-US</dc:language>
  <cp:lastModifiedBy>User</cp:lastModifiedBy>
  <dcterms:modified xsi:type="dcterms:W3CDTF">2006-05-21T19:37:19Z</dcterms:modified>
  <cp:revision>44</cp:revision>
  <dc:subject/>
  <dc:title>Слайд 1</dc:title>
</cp:coreProperties>
</file>